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DA4-F3FD-44AD-918E-06FE51AF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2EA-B0D8-499A-8390-8078CD74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3DF-3402-4B12-9BA9-2FB80939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AF5-CF67-480D-B9AC-735C6BF1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537-6EBA-42D0-B94D-264B766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09A-76E2-4A1D-A185-DB942C28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1A4-BB35-4D26-B654-F2DB540D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177-3528-4D15-B4C1-7BA20EBC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D00-BB84-4E1C-9B7C-EB926C2D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010-94D5-4A1D-9BD1-5584918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287-1BA7-4037-8C3A-8E2A930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02B-45BA-428E-A369-0EF5313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ECE8-554A-4EA7-9ED2-EA9A80FCE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anoke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st Colony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88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8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noke 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ere the Roanoke island is loc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found in the Americas off the coast of what is now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rth Carol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came here in search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o see if it was rich in natural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50px-Roanoke_map_1584"/>
          <p:cNvPicPr/>
          <p:nvPr/>
        </p:nvPicPr>
        <p:blipFill>
          <a:blip r:embed="rId1"/>
          <a:stretch/>
        </p:blipFill>
        <p:spPr>
          <a:xfrm>
            <a:off x="5181480" y="16002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en Elizabeth The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 Elizabeth ruled England fro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58 to 16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nted to establish colonies in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meric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y at Roanoke island was her first attem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FZCCA59F9W5CA9H9VIACAWMMXZMCAHMQI8XCAT1TPWXCAO1H5GQCA903ZVBCAJLQT7QCAV82PMACAKJ8RM8CA6OGIY9CA5N4788CA8N061KCAIJF2OCCAWJMN8MCAY9JG9PCAXC7AVCCAG0MHY1CA8Z0XQW"/>
          <p:cNvPicPr/>
          <p:nvPr/>
        </p:nvPicPr>
        <p:blipFill>
          <a:blip r:embed="rId1"/>
          <a:stretch/>
        </p:blipFill>
        <p:spPr>
          <a:xfrm>
            <a:off x="5257800" y="1676520"/>
            <a:ext cx="31240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Col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group colonists were sent to Roanoke Island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8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at were sent there faced a difficult winter and had trouble finding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year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8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lonist returned to there original homes in England due to sta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158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ohn Wh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more than 100 men, women, and children to Roanoke Is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is colony struggled as well and soon ran out of supp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John returned to  England for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he reached England he found that the country was at war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y couldn’t give him any more supp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n3439_white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ost Tri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White couldn’t go back to Roanoke Island until Augu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5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when he got there everyone had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clue John White found was the word “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ato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 carved onto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oato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n American Indian group that lived near Roanoke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sh Arm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5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ing Phillip decided to attack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assemb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was a huge fleet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r 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English navy had faster ships and more powerful guns which led them to vi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rmada1"/>
          <p:cNvPicPr/>
          <p:nvPr/>
        </p:nvPicPr>
        <p:blipFill>
          <a:blip r:embed="rId1"/>
          <a:stretch/>
        </p:blipFill>
        <p:spPr>
          <a:xfrm>
            <a:off x="4724280" y="1523880"/>
            <a:ext cx="3124440" cy="226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Armada2"/>
          <p:cNvPicPr/>
          <p:nvPr/>
        </p:nvPicPr>
        <p:blipFill>
          <a:blip r:embed="rId2"/>
          <a:stretch/>
        </p:blipFill>
        <p:spPr>
          <a:xfrm>
            <a:off x="4724280" y="4114800"/>
            <a:ext cx="3133800" cy="2198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68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68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he__Lost__Colony__Sir_Walter_Raleigh_Establishes_the_English_Colony_of_Virginia.asf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555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4:00Z</dcterms:created>
  <dc:creator>student</dc:creator>
  <dc:description/>
  <dc:language>en-US</dc:language>
  <cp:lastModifiedBy>UrsinyK</cp:lastModifiedBy>
  <dcterms:modified xsi:type="dcterms:W3CDTF">2010-03-05T19:24:15Z</dcterms:modified>
  <cp:revision>6</cp:revision>
  <dc:subject/>
  <dc:title>Roanoke The Lost Colony</dc:title>
</cp:coreProperties>
</file>